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438-6718-4B22-BCDB-3C9809F5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8A4A-8AB9-4587-817A-3F09DFA1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C88-A6AC-41BF-BFEF-BC948AA63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77D-9D25-4A46-9753-CC0A29B1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28EF-D093-4572-BCEB-295032CD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17E9-0D95-4A3D-9238-9A0B11F7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907C-1275-4275-AB40-7ABE1739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0D4A-161F-41F0-90F0-793E6186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FBDB-720F-4B65-AD9B-2682E6B7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28D1-EF3F-4792-BB9B-CA9FA583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F61F-DAA1-49D4-9AA9-27B38559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48B7-0133-4F88-9852-406C8A99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C640-1836-45BA-957B-87D6AC3F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1853-3126-4942-A56E-BFA60A37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F7ED-DD3C-46A9-8CD7-718EF7F0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E616-434B-44C7-AE49-14F04D7A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520C-45F8-4125-83DD-3CDB03DF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23E-9499-4645-A076-77CC053F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5EB3-DDBB-4546-A57D-1405798E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351-EB39-4E73-A7A4-22C955CB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04D-D913-451D-B3CE-F51F96AF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18E5-E02D-4535-BE9F-A31D4630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13B-A232-41F5-8711-75D93F78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F52-64AB-4D3B-A566-2D91EB4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95FE-8FAB-4B42-9763-45F7FD2C10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02AA-C972-4491-B274-620E5D0C90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580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1: TSARIS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394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Read pages 8-13 of Malo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Glossary term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Anti-Semitis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Capitalis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Arbitrarines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Mi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Menshevik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Construct a Family tree of the Russian Tsars from Michael to Nicholas II, note down the key aspects of each reign (only a few sentences for each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Draw a visual representation of the make up of Russian Society in 1905 showing percentages of each class. (Can be a pie chart, a graph, a pyramid, your choice!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Tahoma"/>
              </a:rPr>
              <a:t>Using the extracts A-E from the handout on Government in Russia, write a paragraph outlining what you think the characteristics and ideas of Nicholas II are. Also comment in which extract you think would be most reliable and why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ted as an independent state under the rule of Ivan III, Grand Prince of Moscow (1462-1505), after previously being part of the Mongol Emp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 established absolute autocracy, where the Grand Prince was the landowner of all of Russia and God’s representative on ear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van the IV, also called Ivan the terrible was the first ruler to adopt the title of Ts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tablished a ruling partnership with the Orthodox Chur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rthodox Church controlled the education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ring Ivan’s reign, land was redistributed to those who served in the military or administrative ro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new gentry formed, peasants became indebted to landowners, serving under contracts and paying rent through produce and servi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system grew into serfdom and slave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as Tsarism implemen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divided into thre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mperial Counc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Tsar’s personal advis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abinet of Minister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each had a responsibility over a specific de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n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o turned Tsar’s ideas into stat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one share power with the Tsar and are all chosen by the Ts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as Tsarism implemen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upt bureaucrac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government requires a civil service to put official policies into practi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, the Russian bureaucracy was based on undeserved privilege and therefore was ineffic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autocracy meant the civil service could not develop policies officially and had to randomly interpret how the Tsar’s laws appl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as Tsarism implemen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ppressive Police: divided into two grou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khrana – Secret Police protected interests of the state (Tsa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rmal police maintained law and order using oppressive measures and the fierce Cossac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was Tsarism implemen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ervative Russian Orthodox Chur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ficial religion of 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inforced autocracy and conservative val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state control since 172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ussia by 19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argest country in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rossed 11 time zones, two continents, 5 vegetation zones,-60 degrees in Winter and lasts for more than half the year, 40 degrees in Summ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161 million people in 1910. Had grown by 40 million in just 13 year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60 different nationali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cial Stru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ing class: Royal family and members of government - 0.5% of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pper class: Highly paid for low workloa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ility, landowners, merchants, church leaders, civil service, Officers in army. 1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ddle Class: professionals, intelligentsia, and technical specialists 1.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cial Struct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ustrial working class: Called the proletariat and lived in cities. 4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sants: Mainly subsistence farmers growing crops and livestock for summer only. Lacked knowledge, technology and equipment. The Tsar feared educating the masses. Were easily affected by drought, disease and famine. 82% of popu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23:01:16Z</dcterms:created>
  <dc:creator>DE&amp;T User</dc:creator>
  <dc:description/>
  <dc:language>en-US</dc:language>
  <cp:lastModifiedBy>Staff</cp:lastModifiedBy>
  <dcterms:modified xsi:type="dcterms:W3CDTF">2009-06-18T00:19:11Z</dcterms:modified>
  <cp:revision>8</cp:revision>
  <dc:subject/>
  <dc:title>1: TSARISM AND ITS OPPONENTS</dc:title>
</cp:coreProperties>
</file>